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gif" ContentType="image/gif"/>
  <Override PartName="/ppt/media/image16.png" ContentType="image/png"/>
  <Override PartName="/ppt/media/image12.jpeg" ContentType="image/jpeg"/>
  <Override PartName="/ppt/media/image9.jpeg" ContentType="image/jpeg"/>
  <Override PartName="/ppt/media/image11.jpeg" ContentType="image/jpeg"/>
  <Override PartName="/ppt/media/image7.gif" ContentType="image/gif"/>
  <Override PartName="/ppt/media/image5.jpeg" ContentType="image/jpeg"/>
  <Override PartName="/ppt/media/image18.wmf" ContentType="image/x-wmf"/>
  <Override PartName="/ppt/media/image6.jpeg" ContentType="image/jpeg"/>
  <Override PartName="/ppt/media/image10.png" ContentType="image/png"/>
  <Override PartName="/ppt/media/image8.jpeg" ContentType="image/jpeg"/>
  <Override PartName="/ppt/media/image24.jpeg" ContentType="image/jpeg"/>
  <Override PartName="/ppt/media/image22.png" ContentType="image/png"/>
  <Override PartName="/ppt/media/image1.jpeg" ContentType="image/jpeg"/>
  <Override PartName="/ppt/media/image21.gif" ContentType="image/gif"/>
  <Override PartName="/ppt/media/image20.gif" ContentType="image/gif"/>
  <Override PartName="/ppt/media/image19.wmf" ContentType="image/x-wmf"/>
  <Override PartName="/ppt/media/image15.gif" ContentType="image/gif"/>
  <Override PartName="/ppt/media/image14.gif" ContentType="image/gif"/>
  <Override PartName="/ppt/media/image23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6EA1-5CBB-4520-8D52-504E87AE0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7072-354D-43B2-98B4-E6CB476E2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E41F-3922-4CD7-8904-498C008CE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C2DC-8003-463E-8C6A-23415BC66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446CD-D5CD-4DE5-B8BD-E18AA86E4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B2AED-367D-4F04-AB38-310B1A70A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88780-0450-409F-ACF4-8C20F2380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60086-323B-4FA4-B638-2B3856C4D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21E6A-6275-4E1A-B480-A543EF30A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AEA62-A245-40C4-B6F0-EDB516EA4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B926A-153C-42FE-ACBE-D9F87870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C013-B52B-4FE2-A8A6-10EEB73A2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50CAF-AFDE-4161-8C3B-728BEF33C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32B00-AFE1-423F-8029-36CCCCBC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CCD10-E8AF-4A73-B435-C6270C5D4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1B45D-5AE3-40A5-8452-DBDAE77FD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D4C40-A51A-4318-8AC9-40FACE1D0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7EEF2-AFAB-4F4D-B923-C00595DAF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F6344-AF70-4F7D-8661-E88C11C07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1DAD1-15B3-4C60-BBF8-17FDC17EE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94C13-4C53-4EF3-86F3-0C819D6A6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2C76C-DA5C-4C22-BE41-15F8A59FF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15F9-6A89-4026-8A31-381BFB595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62D55-3513-4117-B709-50F87FE78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DD90D-5778-4E97-8600-322FA80EA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80678-30C1-480B-8104-F423FFE88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147F9-32D2-45AE-8672-4ABEDC2F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BB33D-BAFE-4E88-B817-95677C2B2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27A74-2556-4B3C-91B8-FF073DFBA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14079-CEC9-4BA2-9463-F0BEAB2BE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5866E-F058-451E-85D3-C15D11893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438B0-746D-49D9-9084-3BE5DB092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AA173-A68E-4AD2-B94C-67AAF2375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BCA3-56F1-406C-A2FB-C7F93B6BB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0B45D-F829-4FCD-9FC0-62FDA26C9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78DFD-3A3B-4AA8-9004-4E2F92842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7482D-E18A-46CF-8EA7-826A7BA5B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46CA0-4AFA-4348-B8EC-4CC3CEC6B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ACD98-8E22-4A4B-8610-42067D79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CE953-8204-407F-8744-186C2DFC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491B2-0661-4BFC-98EC-0C08CFA26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97298-443C-4F14-AF28-9AA8FEB7D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30365-6180-4625-B321-4AE0A1206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BA324C-2BBE-403A-A9A4-674C092A2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A134-AAC0-449F-8CC6-CE243AEC3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D66AEE-87DE-40C7-B654-2B371AE9F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42B554-C0A2-4E22-BE5D-BB207D346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0AFCB6-3915-4071-A43D-E6B350497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A264C4-83C0-46D6-BC0D-EA71181DC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8BEF26-9810-403C-83F5-570911980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AC58EA-AAED-44D3-A693-0B62A476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395E44-745B-4FF8-8441-2F42D4FAF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EE0470-1078-4B13-B538-259D98D3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B2C98-B2A6-45C1-B4B5-F440D7485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F0910-8763-4EB3-A403-7EBF65187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50D6-22D6-48F0-A110-3134C4155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80783-4EE7-46C7-A31F-B0F712F45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23D19C-7614-4456-A33B-370A5C0C5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6FF5EA-1686-4B70-A32B-E4ADAA368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D3261A-9418-4E69-944F-8CCEB7EA7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818743-2BAE-4547-9775-79E82D03A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0DBD00-07EE-4DA0-B0A6-875781610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21AC4F-8B2C-4A61-8359-C34F42472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12D37C-550E-4BCD-9B79-C4A256BA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CDAA3F-6C38-48B9-BDFD-A647F2EB9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D88124-DB7F-4A34-B43D-D1AD37EF6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7D03-57D9-430F-BD90-7F2D521B2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F5A8BF-91B4-47D7-B3FE-866DBC6EB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F86274-3A75-44F5-B72C-9770D8F90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3881B2-2DD4-4729-87F2-7B9EADA04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0D9F-D988-47FC-A704-83F977AFD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D613-53F9-4C06-9393-703734F4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43C68-E940-4908-A447-808A2E5A33A9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F8BAB-D775-455D-8904-7D47344FEB1A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218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219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20" name="Oval 5"/>
              <p:cNvSpPr/>
              <p:nvPr/>
            </p:nvSpPr>
            <p:spPr>
              <a:xfrm>
                <a:off x="3823920" y="1264320"/>
                <a:ext cx="22752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221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222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23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24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27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28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31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3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34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6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37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40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2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43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5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46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49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1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52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55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58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61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64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67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70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73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76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79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82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4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85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7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88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0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92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93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5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96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99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02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05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08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0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11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3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14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6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17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9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320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2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23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25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326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327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4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prstGeom prst="pie">
                  <a:avLst/>
                </a:pr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5" name="Group 120"/>
            <p:cNvGrpSpPr/>
            <p:nvPr/>
          </p:nvGrpSpPr>
          <p:grpSpPr>
            <a:xfrm>
              <a:off x="2343960" y="714240"/>
              <a:ext cx="6411960" cy="4708440"/>
              <a:chOff x="2343960" y="714240"/>
              <a:chExt cx="6411960" cy="4708440"/>
            </a:xfrm>
          </p:grpSpPr>
          <p:sp>
            <p:nvSpPr>
              <p:cNvPr id="336" name="Freeform 121"/>
              <p:cNvSpPr/>
              <p:nvPr/>
            </p:nvSpPr>
            <p:spPr>
              <a:xfrm flipH="1">
                <a:off x="4470840" y="323640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37" name="Arc 122"/>
              <p:cNvSpPr/>
              <p:nvPr/>
            </p:nvSpPr>
            <p:spPr>
              <a:xfrm flipH="1">
                <a:off x="3385440" y="2581200"/>
                <a:ext cx="2617200" cy="28414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38" name="Arc 123"/>
              <p:cNvSpPr/>
              <p:nvPr/>
            </p:nvSpPr>
            <p:spPr>
              <a:xfrm flipH="1">
                <a:off x="3646800" y="2123640"/>
                <a:ext cx="153432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39" name="Arc 124"/>
              <p:cNvSpPr/>
              <p:nvPr/>
            </p:nvSpPr>
            <p:spPr>
              <a:xfrm flipH="1">
                <a:off x="2343600" y="1739160"/>
                <a:ext cx="2930760" cy="2933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0" name="Arc 125"/>
              <p:cNvSpPr/>
              <p:nvPr/>
            </p:nvSpPr>
            <p:spPr>
              <a:xfrm>
                <a:off x="5588640" y="2152080"/>
                <a:ext cx="46980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1" name="Arc 126"/>
              <p:cNvSpPr/>
              <p:nvPr/>
            </p:nvSpPr>
            <p:spPr>
              <a:xfrm>
                <a:off x="5711760" y="2138400"/>
                <a:ext cx="1238040" cy="29340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2" name="Freeform 127"/>
              <p:cNvSpPr/>
              <p:nvPr/>
            </p:nvSpPr>
            <p:spPr>
              <a:xfrm>
                <a:off x="6157080" y="354852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3" name="Freeform 128"/>
              <p:cNvSpPr/>
              <p:nvPr/>
            </p:nvSpPr>
            <p:spPr>
              <a:xfrm flipV="1" rot="19660800">
                <a:off x="5225400" y="2949840"/>
                <a:ext cx="544680" cy="10321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4" name="Freeform 129"/>
              <p:cNvSpPr/>
              <p:nvPr/>
            </p:nvSpPr>
            <p:spPr>
              <a:xfrm flipH="1">
                <a:off x="2688120" y="3386880"/>
                <a:ext cx="133848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5" name="Freeform 130"/>
              <p:cNvSpPr/>
              <p:nvPr/>
            </p:nvSpPr>
            <p:spPr>
              <a:xfrm flipH="1">
                <a:off x="3318840" y="1400040"/>
                <a:ext cx="85824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6" name="Freeform 131"/>
              <p:cNvSpPr/>
              <p:nvPr/>
            </p:nvSpPr>
            <p:spPr>
              <a:xfrm>
                <a:off x="7513920" y="3110400"/>
                <a:ext cx="1242000" cy="19746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7" name="Freeform 132"/>
              <p:cNvSpPr/>
              <p:nvPr/>
            </p:nvSpPr>
            <p:spPr>
              <a:xfrm>
                <a:off x="6868800" y="2111400"/>
                <a:ext cx="1872360" cy="13158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8" name="Freeform 133"/>
              <p:cNvSpPr/>
              <p:nvPr/>
            </p:nvSpPr>
            <p:spPr>
              <a:xfrm>
                <a:off x="6937920" y="714240"/>
                <a:ext cx="817560" cy="17686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9" name="Freeform 134"/>
              <p:cNvSpPr/>
              <p:nvPr/>
            </p:nvSpPr>
            <p:spPr>
              <a:xfrm flipH="1" rot="1347000">
                <a:off x="4184640" y="2156040"/>
                <a:ext cx="545040" cy="10321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69351-FEE0-4E95-9487-21233AD18D58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2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393" name="Группа 8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94" name="Полилиния 9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95" name="Полилиния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397" name="Полилиния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98" name="Полилиния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5812E-2565-4858-BBC2-128B84D85C10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2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443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44" name="Полилиния 9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45" name="Полилиния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47" name="Полилиния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48" name="Полилиния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45E03-573F-4D6F-B762-3BB2EA61E4FA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Прямоугольник с одним вырезанным скругленным углом 6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2" name="Прямоугольный треугольник 7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3" name="Полилиния 8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4" name="Полилиния 9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18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023CF-F5D9-40BB-9D07-F58D061187A5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 Box 6"/>
          <p:cNvSpPr/>
          <p:nvPr/>
        </p:nvSpPr>
        <p:spPr>
          <a:xfrm>
            <a:off x="380880" y="228600"/>
            <a:ext cx="708660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 u="sng">
                <a:solidFill>
                  <a:srgbClr val="ffff00"/>
                </a:solidFill>
                <a:uFillTx/>
                <a:latin typeface="Comic Sans MS"/>
              </a:rPr>
              <a:t>Математика юных следопытов</a:t>
            </a:r>
            <a:r>
              <a:rPr b="1" lang="ru-RU" sz="8800" spc="-1" strike="noStrike">
                <a:solidFill>
                  <a:srgbClr val="ffff00"/>
                </a:solidFill>
                <a:latin typeface="Georgia"/>
              </a:rPr>
              <a:t> </a:t>
            </a:r>
            <a:endParaRPr b="0" lang="en-US" sz="8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537" name="Picture 4" descr="Schkola"/>
          <p:cNvPicPr/>
          <p:nvPr/>
        </p:nvPicPr>
        <p:blipFill>
          <a:blip r:embed="rId1"/>
          <a:stretch/>
        </p:blipFill>
        <p:spPr>
          <a:xfrm>
            <a:off x="2209680" y="4038480"/>
            <a:ext cx="2667240" cy="265284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5" descr="17_1"/>
          <p:cNvPicPr/>
          <p:nvPr/>
        </p:nvPicPr>
        <p:blipFill>
          <a:blip r:embed="rId2"/>
          <a:stretch/>
        </p:blipFill>
        <p:spPr>
          <a:xfrm>
            <a:off x="6934320" y="3429000"/>
            <a:ext cx="1944720" cy="289548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7" descr="ученик"/>
          <p:cNvPicPr/>
          <p:nvPr/>
        </p:nvPicPr>
        <p:blipFill>
          <a:blip r:embed="rId3"/>
          <a:stretch/>
        </p:blipFill>
        <p:spPr>
          <a:xfrm>
            <a:off x="7543800" y="228600"/>
            <a:ext cx="10177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3399"/>
                </a:solidFill>
                <a:latin typeface="Arial Black"/>
              </a:rPr>
              <a:t>Учебные вопросы:</a:t>
            </a:r>
            <a:endParaRPr b="0" lang="en-US" sz="4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7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Как записываются и обозначаются натуральные числа?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495360" indent="-495360">
              <a:spcBef>
                <a:spcPts val="7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Какое самое маленькое натуральное число?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495360" indent="-495360">
              <a:spcBef>
                <a:spcPts val="7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Как сравниваются натуральные числа?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495360" indent="-495360">
              <a:spcBef>
                <a:spcPts val="7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Что такое сложение натуральных чисел?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495360" indent="-495360">
              <a:spcBef>
                <a:spcPts val="7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Что такое вычитание натуральных чисел?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495360" indent="-495360">
              <a:spcBef>
                <a:spcPts val="7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Что такое умножение натуральных чисел?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495360" indent="-495360">
              <a:spcBef>
                <a:spcPts val="7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Что такое деление натуральных чисел?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49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71" name="Picture 6" descr="книга"/>
          <p:cNvPicPr/>
          <p:nvPr/>
        </p:nvPicPr>
        <p:blipFill>
          <a:blip r:embed="rId1"/>
          <a:stretch/>
        </p:blipFill>
        <p:spPr>
          <a:xfrm>
            <a:off x="7616880" y="457200"/>
            <a:ext cx="15271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Picture 4" descr="f0307ed9439c"/>
          <p:cNvPicPr/>
          <p:nvPr/>
        </p:nvPicPr>
        <p:blipFill>
          <a:blip r:embed="rId1"/>
          <a:stretch/>
        </p:blipFill>
        <p:spPr>
          <a:xfrm>
            <a:off x="380880" y="457200"/>
            <a:ext cx="4191120" cy="394020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5" descr="math02"/>
          <p:cNvPicPr/>
          <p:nvPr/>
        </p:nvPicPr>
        <p:blipFill>
          <a:blip r:embed="rId2"/>
          <a:stretch/>
        </p:blipFill>
        <p:spPr>
          <a:xfrm>
            <a:off x="4191120" y="3352680"/>
            <a:ext cx="4952880" cy="32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99ff"/>
                </a:solidFill>
                <a:latin typeface="Comic Sans MS"/>
              </a:rPr>
              <a:t>Задания: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- Зачем мы считаем? </a:t>
            </a:r>
            <a:r>
              <a:rPr b="0" lang="ru-RU" sz="2800" spc="-1" strike="noStrike">
                <a:solidFill>
                  <a:srgbClr val="ff3399"/>
                </a:solidFill>
                <a:latin typeface="Arial Black"/>
              </a:rPr>
              <a:t>(1 команда исследует проблему и готовит презентацию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Заложено ли в числах что-то магическое? </a:t>
            </a:r>
            <a:r>
              <a:rPr b="0" lang="ru-RU" sz="2800" spc="-1" strike="noStrike">
                <a:solidFill>
                  <a:srgbClr val="ff3399"/>
                </a:solidFill>
                <a:latin typeface="Arial Black"/>
              </a:rPr>
              <a:t>(</a:t>
            </a: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3399"/>
                </a:solidFill>
                <a:latin typeface="Arial Black"/>
              </a:rPr>
              <a:t> команда исследует проблему и готовит презентацию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Что мы знаем о числах – великанах? </a:t>
            </a:r>
            <a:r>
              <a:rPr b="0" lang="ru-RU" sz="2800" spc="-1" strike="noStrike">
                <a:solidFill>
                  <a:srgbClr val="ff3399"/>
                </a:solidFill>
                <a:latin typeface="Arial Black"/>
              </a:rPr>
              <a:t>(3 команда исследует проблему и готовит презентацию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- Когда начали выполнять впервые действия над числами? </a:t>
            </a:r>
            <a:r>
              <a:rPr b="0" lang="ru-RU" sz="2800" spc="-1" strike="noStrike">
                <a:solidFill>
                  <a:srgbClr val="ff3399"/>
                </a:solidFill>
                <a:latin typeface="Arial Black"/>
              </a:rPr>
              <a:t>(4 команда исследует проблему и готовит презентацию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4" descr="21_1"/>
          <p:cNvPicPr/>
          <p:nvPr/>
        </p:nvPicPr>
        <p:blipFill>
          <a:blip r:embed="rId1"/>
          <a:stretch/>
        </p:blipFill>
        <p:spPr>
          <a:xfrm>
            <a:off x="4257720" y="1905120"/>
            <a:ext cx="4659120" cy="495288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5" descr="1129196"/>
          <p:cNvPicPr/>
          <p:nvPr/>
        </p:nvPicPr>
        <p:blipFill>
          <a:blip r:embed="rId2"/>
          <a:stretch/>
        </p:blipFill>
        <p:spPr>
          <a:xfrm>
            <a:off x="457200" y="228600"/>
            <a:ext cx="35719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914400" y="17524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ff00"/>
                </a:solidFill>
                <a:latin typeface="Comic Sans MS"/>
              </a:rPr>
              <a:t>Желаю удачи!!!</a:t>
            </a:r>
            <a:endParaRPr b="0" lang="en-US" sz="7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79" name="Picture 5" descr="09288fba1b0c837673e461e2378ddfa3"/>
          <p:cNvPicPr/>
          <p:nvPr/>
        </p:nvPicPr>
        <p:blipFill>
          <a:blip r:embed="rId1"/>
          <a:stretch/>
        </p:blipFill>
        <p:spPr>
          <a:xfrm>
            <a:off x="3048120" y="2895480"/>
            <a:ext cx="29844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6553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9900cc"/>
                </a:solidFill>
                <a:latin typeface="Comic Sans MS"/>
              </a:rPr>
              <a:t>Ваши цели:</a:t>
            </a:r>
            <a:endParaRPr b="0" lang="en-US" sz="4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-360" y="609120"/>
            <a:ext cx="624852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Comic Sans MS"/>
              </a:rPr>
              <a:t>понять необходимость знания  темы новой темы для решения большого круга задач, показать широту применения этой темы в реальной жизни;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Comic Sans MS"/>
              </a:rPr>
              <a:t>развить качества мышления, которые  необходимы человеку в современном обществе, для общей социальной ориентации и решения практических проблем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ff"/>
                </a:solidFill>
                <a:latin typeface="Comic Sans MS"/>
              </a:rPr>
              <a:t>понять и оценить свой потенциал с точки зрения образовательной перспективы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42" name="Picture 16" descr="MPj04394420000[1]"/>
          <p:cNvPicPr/>
          <p:nvPr/>
        </p:nvPicPr>
        <p:blipFill>
          <a:blip r:embed="rId1"/>
          <a:stretch/>
        </p:blipFill>
        <p:spPr>
          <a:xfrm>
            <a:off x="6091200" y="1219320"/>
            <a:ext cx="30528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152280" y="10666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00"/>
                </a:solidFill>
                <a:latin typeface="Arial Black"/>
              </a:rPr>
              <a:t>- научиться производить  вычисления, необходимые для применения в практической деятельности;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00"/>
                </a:solidFill>
                <a:latin typeface="Arial Black"/>
              </a:rPr>
              <a:t>- научиться решать основные задачи, применять понятие числа;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4" name="Rectangle 4"/>
          <p:cNvSpPr/>
          <p:nvPr/>
        </p:nvSpPr>
        <p:spPr>
          <a:xfrm>
            <a:off x="380880" y="380880"/>
            <a:ext cx="746784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3399"/>
                </a:solidFill>
                <a:latin typeface="Comic Sans MS"/>
              </a:rPr>
              <a:t>Ваши задачи:</a:t>
            </a:r>
            <a:endParaRPr b="0" lang="en-US" sz="4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545" name="Picture 6" descr="ef70c2d57c0fcf4303343c866a626210"/>
          <p:cNvPicPr/>
          <p:nvPr/>
        </p:nvPicPr>
        <p:blipFill>
          <a:blip r:embed="rId1"/>
          <a:stretch/>
        </p:blipFill>
        <p:spPr>
          <a:xfrm>
            <a:off x="2666880" y="4114800"/>
            <a:ext cx="2216160" cy="274320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15" descr="09288fba1b0c837673e461e2378ddfa3"/>
          <p:cNvPicPr/>
          <p:nvPr/>
        </p:nvPicPr>
        <p:blipFill>
          <a:blip r:embed="rId2"/>
          <a:stretch/>
        </p:blipFill>
        <p:spPr>
          <a:xfrm>
            <a:off x="6400800" y="3124080"/>
            <a:ext cx="29844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e103"/>
                </a:solidFill>
                <a:latin typeface="Arial Black"/>
              </a:rPr>
              <a:t>Что мы знаем о числах?</a:t>
            </a:r>
            <a:endParaRPr b="0" lang="en-US" sz="4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151920" y="1066320"/>
            <a:ext cx="8991720" cy="26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Comic Sans MS"/>
              </a:rPr>
              <a:t>Как записываются и обозначаются числа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Comic Sans MS"/>
              </a:rPr>
              <a:t>Что называют однозначными, двузначными, многозначными числами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Comic Sans MS"/>
              </a:rPr>
              <a:t>Какие выполняют арифметические действия над числами</a:t>
            </a:r>
            <a:r>
              <a:rPr b="1" lang="ru-RU" sz="3200" spc="-1" strike="noStrike">
                <a:solidFill>
                  <a:srgbClr val="ff0066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49" name="Picture 5" descr="p4_z_1"/>
          <p:cNvPicPr/>
          <p:nvPr/>
        </p:nvPicPr>
        <p:blipFill>
          <a:blip r:embed="rId1"/>
          <a:stretch/>
        </p:blipFill>
        <p:spPr>
          <a:xfrm>
            <a:off x="5334120" y="3505320"/>
            <a:ext cx="3581280" cy="279216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6" descr="2d7d190f7fd2"/>
          <p:cNvPicPr/>
          <p:nvPr/>
        </p:nvPicPr>
        <p:blipFill>
          <a:blip r:embed="rId2"/>
          <a:stretch/>
        </p:blipFill>
        <p:spPr>
          <a:xfrm>
            <a:off x="838080" y="4038480"/>
            <a:ext cx="3657600" cy="25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ff00"/>
                </a:solidFill>
                <a:latin typeface="Arial Black"/>
              </a:rPr>
              <a:t>Что мы уже умеем?</a:t>
            </a:r>
            <a:endParaRPr b="0" lang="en-US" sz="4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0" y="8377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Arial Black"/>
              </a:rPr>
              <a:t>Арифметические действия над числами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Например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        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1) 1305 *86 – 930 + 100*38 =115100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        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2)  ( 564:47 +2592:72)* 250 - 200 = 11800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-32580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Arial Black"/>
              </a:rPr>
              <a:t>Работа многозначными числами</a:t>
            </a:r>
            <a:r>
              <a:rPr b="1" lang="ru-RU" sz="2800" spc="-1" strike="noStrike">
                <a:solidFill>
                  <a:srgbClr val="ff006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     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-Прочитайте число 16402861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-32580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99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3399"/>
                </a:solidFill>
                <a:latin typeface="Arial Black"/>
              </a:rPr>
              <a:t>Решение задачи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-325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Из двух городов одновременно навстречу друг другу выехали два поезда и встретились через 7 часов. Скорость первого поезда 102 км/ч, а второго 125км/ч. Найдите расстояние между городами?</a:t>
            </a:r>
            <a:r>
              <a:rPr b="0" lang="ru-RU" sz="3000" spc="-1" strike="noStrike">
                <a:solidFill>
                  <a:srgbClr val="ffcc00"/>
                </a:solidFill>
                <a:latin typeface="Arial Black"/>
              </a:rPr>
              <a:t>    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-325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53" name="Picture 5" descr="карандаш"/>
          <p:cNvPicPr/>
          <p:nvPr/>
        </p:nvPicPr>
        <p:blipFill>
          <a:blip r:embed="rId1"/>
          <a:stretch/>
        </p:blipFill>
        <p:spPr>
          <a:xfrm>
            <a:off x="7477200" y="2514600"/>
            <a:ext cx="16668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99ff"/>
                </a:solidFill>
                <a:latin typeface="Arial Black"/>
              </a:rPr>
              <a:t>Какие ещё бывают числа?</a:t>
            </a:r>
            <a:endParaRPr b="0" lang="en-US" sz="4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26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0000"/>
                </a:solidFill>
                <a:latin typeface="Arial Black"/>
              </a:rPr>
              <a:t>Натуральные числа</a:t>
            </a:r>
            <a:endParaRPr b="0" lang="en-US" sz="41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1" lang="ru-RU" sz="3700" spc="-1" strike="noStrike">
                <a:solidFill>
                  <a:srgbClr val="00ff00"/>
                </a:solidFill>
                <a:latin typeface="Arial Black"/>
              </a:rPr>
              <a:t>Для счета предметов применяют натуральные числа. Любое натуральное число можно записать с помощью десяти цифр: </a:t>
            </a:r>
            <a:r>
              <a:rPr b="1" lang="ru-RU" sz="4000" spc="-1" strike="noStrike">
                <a:solidFill>
                  <a:srgbClr val="00ff00"/>
                </a:solidFill>
                <a:latin typeface="Comic Sans MS"/>
              </a:rPr>
              <a:t>0, 1, 2, 3, 4, 5, 6, 7, 8, 9</a:t>
            </a:r>
            <a:r>
              <a:rPr b="1" lang="ru-RU" sz="3700" spc="-1" strike="noStrike">
                <a:solidFill>
                  <a:srgbClr val="00ff00"/>
                </a:solidFill>
                <a:latin typeface="Arial Black"/>
              </a:rPr>
              <a:t>. Такую запись чисел называют десятичной.</a:t>
            </a:r>
            <a:r>
              <a:rPr b="0" lang="ru-RU" sz="37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7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56" name="Picture 5" descr="книга"/>
          <p:cNvPicPr/>
          <p:nvPr/>
        </p:nvPicPr>
        <p:blipFill>
          <a:blip r:embed="rId1"/>
          <a:stretch/>
        </p:blipFill>
        <p:spPr>
          <a:xfrm>
            <a:off x="0" y="0"/>
            <a:ext cx="1673280" cy="175248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6" descr="письмо"/>
          <p:cNvPicPr/>
          <p:nvPr/>
        </p:nvPicPr>
        <p:blipFill>
          <a:blip r:embed="rId2"/>
          <a:stretch/>
        </p:blipFill>
        <p:spPr>
          <a:xfrm>
            <a:off x="7696080" y="1905120"/>
            <a:ext cx="1219320" cy="108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800" spc="-1" strike="noStrike">
                <a:solidFill>
                  <a:srgbClr val="ff0000"/>
                </a:solidFill>
                <a:latin typeface="Comic Sans MS"/>
              </a:rPr>
              <a:t>Тема урока:</a:t>
            </a:r>
            <a:endParaRPr b="0" lang="en-US" sz="5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9" name="WordArt 3"/>
          <p:cNvSpPr txBox="1"/>
          <p:nvPr/>
        </p:nvSpPr>
        <p:spPr>
          <a:xfrm>
            <a:off x="228600" y="1828800"/>
            <a:ext cx="8601120" cy="12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«Натуральные числа»</a:t>
            </a:r>
            <a:endParaRPr b="1" lang="en-US" sz="7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60" name="Picture 4" descr="Teacher"/>
          <p:cNvPicPr/>
          <p:nvPr/>
        </p:nvPicPr>
        <p:blipFill>
          <a:blip r:embed="rId1"/>
          <a:stretch/>
        </p:blipFill>
        <p:spPr>
          <a:xfrm>
            <a:off x="914400" y="3505320"/>
            <a:ext cx="3049560" cy="312408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5" descr="Espera2"/>
          <p:cNvPicPr/>
          <p:nvPr/>
        </p:nvPicPr>
        <p:blipFill>
          <a:blip r:embed="rId2"/>
          <a:stretch/>
        </p:blipFill>
        <p:spPr>
          <a:xfrm>
            <a:off x="5181480" y="3429000"/>
            <a:ext cx="21654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WordArt 5"/>
          <p:cNvSpPr txBox="1"/>
          <p:nvPr/>
        </p:nvSpPr>
        <p:spPr>
          <a:xfrm>
            <a:off x="685800" y="3276720"/>
            <a:ext cx="7677000" cy="137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Что таят в себе числа?</a:t>
            </a:r>
            <a:endParaRPr b="1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63" name="Picture 8" descr="j0299125"/>
          <p:cNvPicPr/>
          <p:nvPr/>
        </p:nvPicPr>
        <p:blipFill>
          <a:blip r:embed="rId1"/>
          <a:stretch/>
        </p:blipFill>
        <p:spPr>
          <a:xfrm>
            <a:off x="380880" y="304920"/>
            <a:ext cx="2022480" cy="1805040"/>
          </a:xfrm>
          <a:prstGeom prst="rect">
            <a:avLst/>
          </a:prstGeom>
          <a:ln w="0">
            <a:noFill/>
          </a:ln>
        </p:spPr>
      </p:pic>
      <p:sp>
        <p:nvSpPr>
          <p:cNvPr id="564" name="Rectangle 2"/>
          <p:cNvSpPr/>
          <p:nvPr/>
        </p:nvSpPr>
        <p:spPr>
          <a:xfrm>
            <a:off x="457200" y="2362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00ff"/>
                </a:solidFill>
                <a:latin typeface="Arial Black"/>
              </a:rPr>
              <a:t>Основополагающий вопрос:</a:t>
            </a:r>
            <a:endParaRPr b="0" lang="en-US" sz="4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565" name="Picture 6" descr="j0281904"/>
          <p:cNvPicPr/>
          <p:nvPr/>
        </p:nvPicPr>
        <p:blipFill>
          <a:blip r:embed="rId2"/>
          <a:stretch/>
        </p:blipFill>
        <p:spPr>
          <a:xfrm>
            <a:off x="6095880" y="4572000"/>
            <a:ext cx="262728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99"/>
                </a:solidFill>
                <a:latin typeface="Arial Black"/>
              </a:rPr>
              <a:t>Проблемные вопросы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Зачем мы считаем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Заложено ли в числах что-то магическое?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Что мы знаем о числах – великанах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Когда начали впервые выполнять действия над числами?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68" name="Picture 5" descr="человек"/>
          <p:cNvPicPr/>
          <p:nvPr/>
        </p:nvPicPr>
        <p:blipFill>
          <a:blip r:embed="rId1"/>
          <a:stretch/>
        </p:blipFill>
        <p:spPr>
          <a:xfrm>
            <a:off x="6761160" y="4191120"/>
            <a:ext cx="190512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26552</cp:lastModifiedBy>
  <dcterms:modified xsi:type="dcterms:W3CDTF">2010-05-31T12:10:17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